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165C-03CA-4AE0-941B-F94238C6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F8C5-DC5C-45F5-9BB5-BF4D0F9A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5E3B-0581-4CB3-BBB8-0F0BBEE8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61E9-40ED-4207-BDBD-641A72A0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46F-CD12-4D24-A0F9-5BD56E3D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4A2-FB93-4588-BA3B-0A8D4D29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2CCB-5D31-4CED-B93B-2F3FF665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FA23-4985-465A-9A1A-541251E8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05A-EBB0-4AD3-8E34-89F079E2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F6A4-ABCD-44DF-B529-C9A90CCE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05D1-9EE9-4EE4-9A9B-E3AA149E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2BB2-1650-4F98-921C-63FB927C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2AEC-F3AF-436B-8A45-6FFF212F5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hornets.net/basketball/2005/ncaa/images/ncaas_sn_darrin_shine_jp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caas_sn_aaron_williams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36360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144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mediate 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uctures and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1371600"/>
            <a:ext cx="75438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uctures and Strategies focuses on tactics and formation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ctivity we study this area through is: Baske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te the cycle of analysis for basketb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ncaas_sn_aaron_williams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36360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212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533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mediate 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uctures and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29528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1219320"/>
            <a:ext cx="3124080" cy="1752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2666880"/>
            <a:ext cx="2667240" cy="1828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4343400"/>
            <a:ext cx="3048120" cy="1905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666880"/>
            <a:ext cx="2666880" cy="1981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16002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476760" y="44956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057400" y="480060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676520" y="1676520"/>
            <a:ext cx="1752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ncaas_sn_aaron_williams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36360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1295280"/>
            <a:ext cx="7315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 a stru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a strate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 an example of e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533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mediate 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uctures and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ncaas_sn_aaron_williams" descr="">
            <a:hlinkClick r:id="rId1"/>
          </p:cNvPr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120" y="36360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14400" y="457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mediate 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uctures and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1066680"/>
            <a:ext cx="73915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an you gather information about your performance in basketba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 three meth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are these methods valid and appropr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ncaas_sn_aaron_williams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363600"/>
            <a:ext cx="7848360" cy="6348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38080" y="1295280"/>
            <a:ext cx="731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ü Freez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wind and play footage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liable and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manent record of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rolled environ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s initial d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etitive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572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mediate 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uctures and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ncaas_sn_aaron_williams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509760"/>
            <a:ext cx="7848720" cy="6348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14400" y="4572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mediate 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uctures and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066680"/>
            <a:ext cx="7391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les and responsibil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u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s of quality do they requi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ncaas_sn_aaron_williams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509760"/>
            <a:ext cx="7848720" cy="6348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38080" y="6094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mediate 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ructures and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129528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me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day 2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Janu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2:21:07Z</dcterms:created>
  <dc:creator>HamiltonP</dc:creator>
  <dc:description/>
  <dc:language>en-US</dc:language>
  <cp:lastModifiedBy>HamiltonP</cp:lastModifiedBy>
  <dcterms:modified xsi:type="dcterms:W3CDTF">2007-01-15T12:21:32Z</dcterms:modified>
  <cp:revision>1</cp:revision>
  <dc:subject/>
  <dc:title>PowerPoint Presentation</dc:title>
</cp:coreProperties>
</file>